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524-D087-4BEA-9C84-28560E66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256-A167-4CBC-8F68-A78EAC9F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0FE-9DE7-4E89-9909-893A5476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FB6-9874-4873-B023-373115C6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9CCA-63BE-4C41-9C48-32A2EB74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685F-E0C9-42B4-ACB5-87DBD768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9CA5-9094-482A-AF3B-B62495F8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613D-3923-416F-BD9F-F8FA8BB9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6F5-A08A-4F0D-9E99-146CF953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F25B-BD29-47C7-96B2-2A153BEC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0870-6D2B-4436-83A0-28678B5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E28-2B52-46DB-99E3-7A3F7BF8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D9BF-FE7D-4CB3-A024-42E221E1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689F-9734-4BCA-B00E-0395B48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6022-B27D-4956-BAD7-41A2D210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711F-56AE-433B-A0CF-E566021F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3599-0BED-4830-AB4E-1A11C87E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BA1E-3598-4B9F-914D-4019161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0363-BBC5-4518-861A-25E36C65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AFDE-CE0F-4618-A2D3-3F630632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ABCF-0726-42A1-BF41-E5058454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FB2F-6E86-46E1-9D50-28686AD0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DF4-A599-49EB-9736-94C2D72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1EE4-B311-4B83-AE4A-41D34F98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E223-96A8-4348-86FC-275A38E2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CF24-89DF-432C-B3C9-6F32267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65F7-3F1F-46D3-917A-00D3D1F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9B73-9C47-48CB-8113-DCF9B7B5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EC42-9DAB-46C5-AC48-FCDEBD12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CA4A-C840-406E-9D55-A77F57FA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325-B93C-4DA6-B7F1-13B7993C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9A0-5CD2-4114-B38A-51EAEEB8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A46-60CC-4F4A-8029-DC5D26DB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4A5-4F31-4327-885B-603F6054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EA4-2FCE-4BF3-8BDB-3DD11A0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789-F437-491C-94C0-82D781C0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2A37-B6C8-4AE3-B11B-461151DBA75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214200" y="5429160"/>
            <a:ext cx="2570400" cy="1357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6924600" y="5321160"/>
            <a:ext cx="2090880" cy="1805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B269-5A6C-4A93-80E9-1BE07E87D93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146160" y="55440"/>
            <a:ext cx="184176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F366-0428-4B8D-9F08-139CBA311ED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387440"/>
            <a:ext cx="81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46c0a"/>
                </a:solidFill>
                <a:latin typeface="Calibri"/>
              </a:rPr>
              <a:t>Efeitos sinérgicos </a:t>
            </a:r>
            <a:r>
              <a:rPr b="1" i="1" lang="pt-BR" sz="3600" spc="-1" strike="noStrike">
                <a:solidFill>
                  <a:srgbClr val="e46c0a"/>
                </a:solidFill>
                <a:latin typeface="Calibri"/>
              </a:rPr>
              <a:t>in vitro </a:t>
            </a:r>
            <a:r>
              <a:rPr b="1" lang="pt-BR" sz="3600" spc="-1" strike="noStrike">
                <a:solidFill>
                  <a:srgbClr val="e46c0a"/>
                </a:solidFill>
                <a:latin typeface="Calibri"/>
              </a:rPr>
              <a:t>de antimicrobianos utilizados no tratamento de infecções por enterobactérias resistentes aos carbapenêmicos e às polimixin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05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98989"/>
                </a:solidFill>
                <a:latin typeface="Calibri"/>
              </a:rPr>
              <a:t>Cláudia Maio Carril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98989"/>
                </a:solidFill>
                <a:latin typeface="Calibri"/>
              </a:rPr>
              <a:t>CCIH/U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98989"/>
                </a:solidFill>
                <a:latin typeface="Calibri"/>
              </a:rPr>
              <a:t>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tângulo 5"/>
          <p:cNvSpPr/>
          <p:nvPr/>
        </p:nvSpPr>
        <p:spPr>
          <a:xfrm>
            <a:off x="44211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0000"/>
                </a:solidFill>
                <a:latin typeface="Calibri"/>
              </a:rPr>
              <a:t>Terap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4200" y="1600200"/>
          <a:ext cx="8715600" cy="3881520"/>
        </p:xfrm>
        <a:graphic>
          <a:graphicData uri="http://schemas.openxmlformats.org/drawingml/2006/table">
            <a:tbl>
              <a:tblPr/>
              <a:tblGrid>
                <a:gridCol w="2286000"/>
                <a:gridCol w="1200240"/>
                <a:gridCol w="1743120"/>
                <a:gridCol w="1743120"/>
                <a:gridCol w="1743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tio infec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Óbito relacionado 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ergismo (Time K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. Combi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 (70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 (47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(73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oli/amica/ti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 (18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PN, 1 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 (6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oli/amica/tige/</a:t>
                      </a:r>
                      <a:r>
                        <a:rPr b="1" lang="pt-BR" sz="18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a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 (18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PN, 1 I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 (6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 (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/amica/ca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(11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33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66,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/carba/ti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7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ICS, I I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Poli/ca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 (7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ITU, 1 P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(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Poli/a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(3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I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Poli/ti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(3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S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0" name="Chave direita 4"/>
          <p:cNvSpPr/>
          <p:nvPr/>
        </p:nvSpPr>
        <p:spPr>
          <a:xfrm>
            <a:off x="8001000" y="4357800"/>
            <a:ext cx="357120" cy="10713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071360"/>
              <a:gd name="textAreaBottom" fmla="*/ 106236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5"/>
          <p:cNvSpPr/>
          <p:nvPr/>
        </p:nvSpPr>
        <p:spPr>
          <a:xfrm>
            <a:off x="8358120" y="47023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3735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have direita 6"/>
          <p:cNvSpPr/>
          <p:nvPr/>
        </p:nvSpPr>
        <p:spPr>
          <a:xfrm>
            <a:off x="8072280" y="2928960"/>
            <a:ext cx="152640" cy="714240"/>
          </a:xfrm>
          <a:custGeom>
            <a:avLst/>
            <a:gdLst>
              <a:gd name="textAreaLeft" fmla="*/ 0 w 152640"/>
              <a:gd name="textAreaRight" fmla="*/ 55080 w 152640"/>
              <a:gd name="textAreaTop" fmla="*/ 3960 h 714240"/>
              <a:gd name="textAreaBottom" fmla="*/ 7102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2"/>
                  <a:pt x="10800" y="384"/>
                </a:cubicBezTo>
                <a:lnTo>
                  <a:pt x="10800" y="10416"/>
                </a:lnTo>
                <a:cubicBezTo>
                  <a:pt x="10800" y="10608"/>
                  <a:pt x="16200" y="10800"/>
                  <a:pt x="21600" y="10800"/>
                </a:cubicBezTo>
                <a:cubicBezTo>
                  <a:pt x="16200" y="10800"/>
                  <a:pt x="10800" y="10992"/>
                  <a:pt x="10800" y="11184"/>
                </a:cubicBezTo>
                <a:lnTo>
                  <a:pt x="10800" y="21216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ixaDeTexto 7"/>
          <p:cNvSpPr/>
          <p:nvPr/>
        </p:nvSpPr>
        <p:spPr>
          <a:xfrm>
            <a:off x="8215200" y="3071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4000" spc="-1" strike="noStrike">
                <a:solidFill>
                  <a:srgbClr val="e46c0a"/>
                </a:solidFill>
                <a:latin typeface="Calibri"/>
              </a:rPr>
              <a:t>Curva </a:t>
            </a:r>
            <a:r>
              <a:rPr b="1" i="1" lang="en-US" sz="4000" spc="-1" strike="noStrike">
                <a:solidFill>
                  <a:srgbClr val="e46c0a"/>
                </a:solidFill>
                <a:latin typeface="Calibri"/>
              </a:rPr>
              <a:t>Time Kill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Kleb  901) 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C Poli B: 8 ug/mL; MIC tige:1ug/mL;MIC amica: 16 ug/mL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Gráfico 1" descr=""/>
          <p:cNvPicPr/>
          <p:nvPr/>
        </p:nvPicPr>
        <p:blipFill>
          <a:blip r:embed="rId1"/>
          <a:stretch/>
        </p:blipFill>
        <p:spPr>
          <a:xfrm>
            <a:off x="1143000" y="2643120"/>
            <a:ext cx="6643800" cy="257184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3"/>
          <p:cNvSpPr/>
          <p:nvPr/>
        </p:nvSpPr>
        <p:spPr>
          <a:xfrm rot="16200000">
            <a:off x="157680" y="3693240"/>
            <a:ext cx="16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og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 (UFC/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4"/>
          <p:cNvSpPr/>
          <p:nvPr/>
        </p:nvSpPr>
        <p:spPr>
          <a:xfrm>
            <a:off x="3929040" y="5429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Calibri"/>
              </a:rPr>
              <a:t>Curva </a:t>
            </a:r>
            <a:r>
              <a:rPr b="1" i="1" lang="en-US" sz="4000" spc="-1" strike="noStrike">
                <a:solidFill>
                  <a:srgbClr val="e46c0a"/>
                </a:solidFill>
                <a:latin typeface="Calibri"/>
              </a:rPr>
              <a:t>Time Kill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Kleb 1085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C Poli B: 32 ug/mL; MIC tige: 2 ug/mL;  MIC imip:8 ug/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Gráfico 2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6286680" cy="2928960"/>
          </a:xfrm>
          <a:prstGeom prst="rect">
            <a:avLst/>
          </a:prstGeom>
          <a:ln w="0">
            <a:noFill/>
          </a:ln>
        </p:spPr>
      </p:pic>
      <p:sp>
        <p:nvSpPr>
          <p:cNvPr id="161" name="CaixaDeTexto 7"/>
          <p:cNvSpPr/>
          <p:nvPr/>
        </p:nvSpPr>
        <p:spPr>
          <a:xfrm rot="16200000">
            <a:off x="273960" y="3857760"/>
            <a:ext cx="212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og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UFC/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8"/>
          <p:cNvSpPr/>
          <p:nvPr/>
        </p:nvSpPr>
        <p:spPr>
          <a:xfrm>
            <a:off x="3857760" y="6000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e46c0a"/>
                </a:solidFill>
                <a:latin typeface="Calibri"/>
              </a:rPr>
              <a:t>Sinergismo x Poli 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6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Elemam et al, JCM 201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oli B + rifampicina, Poli B + doxicic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oli B + Tigeciclina (↘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ournaras et al, JAC 2011 (Ti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Tige + colistina: bactericida e sinér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Tascine et al, AAC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Colistina + rifampicina (bactericida e bacteriostátic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Gaibani et al, JAC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Colistina + rifamp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Colistina + rifampicina + tigeciclina (↘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46c0a"/>
                </a:solidFill>
                <a:latin typeface="Calibri"/>
              </a:rPr>
              <a:t>Óbito relacionado à infec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f6228"/>
                </a:solidFill>
                <a:latin typeface="Calibri"/>
              </a:rPr>
              <a:t>Óbito relacionado à infecção: 47,4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f6228"/>
                </a:solidFill>
                <a:latin typeface="Calibri"/>
              </a:rPr>
              <a:t>Sinergismo x óbito relacio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f6228"/>
                </a:solidFill>
                <a:latin typeface="Calibri"/>
              </a:rPr>
              <a:t>RR 1,21, IC 95% (0,67-2,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4f6228"/>
                </a:solidFill>
                <a:latin typeface="Calibri"/>
              </a:rPr>
              <a:t>p= 0,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e46c0a"/>
                </a:solidFill>
                <a:latin typeface="Calibri"/>
              </a:rPr>
              <a:t>Dendrograma</a:t>
            </a:r>
            <a:br>
              <a:rPr sz="5400"/>
            </a:b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BioNumerics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Imagem 5" descr=""/>
          <p:cNvPicPr/>
          <p:nvPr/>
        </p:nvPicPr>
        <p:blipFill>
          <a:blip r:embed="rId1"/>
          <a:stretch/>
        </p:blipFill>
        <p:spPr>
          <a:xfrm>
            <a:off x="1674720" y="1521000"/>
            <a:ext cx="6183360" cy="4694040"/>
          </a:xfrm>
          <a:prstGeom prst="rect">
            <a:avLst/>
          </a:prstGeom>
          <a:ln w="0">
            <a:noFill/>
          </a:ln>
        </p:spPr>
      </p:pic>
      <p:sp>
        <p:nvSpPr>
          <p:cNvPr id="170" name="Retângulo 4"/>
          <p:cNvSpPr/>
          <p:nvPr/>
        </p:nvSpPr>
        <p:spPr>
          <a:xfrm>
            <a:off x="7000920" y="2928960"/>
            <a:ext cx="428760" cy="3214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e46c0a"/>
                </a:solidFill>
                <a:latin typeface="Calibri"/>
              </a:rPr>
              <a:t>Discussã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Sinergismo </a:t>
            </a:r>
            <a:r>
              <a:rPr b="1" i="1" lang="pt-BR" sz="3200" spc="-1" strike="noStrike">
                <a:solidFill>
                  <a:srgbClr val="77933c"/>
                </a:solidFill>
                <a:latin typeface="Calibri"/>
              </a:rPr>
              <a:t>in vitro </a:t>
            </a: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em infecções por ERC e Polimixinas resisten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Frequente, entre 2 e 3 dro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Não diminuiu mort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5 clusters, sem relação com sinerg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Tratamento das infecções por enterobactérias pan-resistentes permanece obsc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Necessários mais estu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Novas droga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46c0a"/>
                </a:solidFill>
                <a:latin typeface="Calibri"/>
              </a:rPr>
              <a:t>Obrig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98989"/>
                </a:solidFill>
                <a:latin typeface="Calibri"/>
              </a:rPr>
              <a:t>claudiacarrilho@sercomtel.com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e46c0a"/>
                </a:solidFill>
                <a:latin typeface="Calibri"/>
              </a:rPr>
              <a:t>Autor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Cláudia Maio Carrilho-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Juliana J Gaudereto – 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Larissa M Oliveira – 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Letícia C dos Santos- 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Silvia F Costa - 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e46c0a"/>
                </a:solidFill>
                <a:latin typeface="Calibri"/>
              </a:rPr>
              <a:t>Introduçã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Infecções por E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Endêm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Sério problema de saúde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Mortalidade elevada (18,5%-&gt;7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Inexistência de tratamento efica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Resistência às polimixinas – </a:t>
            </a:r>
            <a:r>
              <a:rPr b="1" lang="pt-BR" sz="2800" spc="-1" strike="noStrike">
                <a:solidFill>
                  <a:srgbClr val="ff0000"/>
                </a:solidFill>
                <a:latin typeface="Calibri"/>
              </a:rPr>
              <a:t>pan-resist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Opçõ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933c"/>
                </a:solidFill>
                <a:latin typeface="Calibri"/>
              </a:rPr>
              <a:t>antigas dro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933c"/>
                </a:solidFill>
                <a:latin typeface="Calibri"/>
              </a:rPr>
              <a:t>otimizar pK/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933c"/>
                </a:solidFill>
                <a:latin typeface="Calibri"/>
              </a:rPr>
              <a:t>sinerg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aixaDeTexto 3"/>
          <p:cNvSpPr/>
          <p:nvPr/>
        </p:nvSpPr>
        <p:spPr>
          <a:xfrm>
            <a:off x="4286160" y="5643720"/>
            <a:ext cx="450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1f497d"/>
                </a:solidFill>
                <a:latin typeface="Arial"/>
                <a:ea typeface="Arial"/>
              </a:rPr>
              <a:t>Kontopolou et al. JHI 2010;76:70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1f497d"/>
                </a:solidFill>
                <a:latin typeface="Arial"/>
                <a:ea typeface="Arial"/>
              </a:rPr>
              <a:t>Magiorakos et al. CMI 2011;18:268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1f497d"/>
                </a:solidFill>
                <a:latin typeface="Arial"/>
                <a:ea typeface="Arial"/>
              </a:rPr>
              <a:t>Nordmann P, Poirel L. CMI 2014;20:821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1f497d"/>
                </a:solidFill>
                <a:latin typeface="Arial"/>
                <a:ea typeface="Arial"/>
              </a:rPr>
              <a:t>Petrosillo  et al. Expert Ver Anti Infect Ther 2013;11:159-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1f497d"/>
                </a:solidFill>
                <a:latin typeface="Arial"/>
                <a:ea typeface="Arial"/>
              </a:rPr>
              <a:t>Tzouvelekis et al. CMI 2014;20:862-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066760" y="142920"/>
            <a:ext cx="6505920" cy="140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28760" y="1687680"/>
            <a:ext cx="8426160" cy="4551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7429680" y="6315120"/>
            <a:ext cx="1571400" cy="47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e46c0a"/>
                </a:solidFill>
                <a:latin typeface="Calibri"/>
              </a:rPr>
              <a:t>Objetiv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Conhecer o sinergismo </a:t>
            </a:r>
            <a:r>
              <a:rPr b="1" i="1" lang="pt-BR" sz="3200" spc="-1" strike="noStrike">
                <a:solidFill>
                  <a:srgbClr val="77933c"/>
                </a:solidFill>
                <a:latin typeface="Calibri"/>
              </a:rPr>
              <a:t>in vitro </a:t>
            </a: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entre drogas utilizadas no tratamento de infecções por ERC e resistentes à polimix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Óbito relacionada a essas infecçõ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e46c0a"/>
                </a:solidFill>
                <a:latin typeface="Calibri"/>
              </a:rPr>
              <a:t>Material e Métod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Coorte prospectiva, HU Londr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317 leitos, 26 leitos UTI adul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Unidade de queim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TX Medula óss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Março/11-dez/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Sexo, idade, sítio infecção, ATM utilizados (associações de 2 ou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Desfecho-: óbito relacionado à infec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e46c0a"/>
                </a:solidFill>
                <a:latin typeface="Calibri"/>
              </a:rPr>
              <a:t>Material e Métod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Indentificação: Vitek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MIC: microdiluição em c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7933c"/>
                </a:solidFill>
                <a:latin typeface="Calibri"/>
              </a:rPr>
              <a:t>Meropenem/imipenem : S ≤ 1ug/mL (CL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7933c"/>
                </a:solidFill>
                <a:latin typeface="Calibri"/>
              </a:rPr>
              <a:t>Colistina: S ≤ 2ug/mL (Euca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Sinergismo: </a:t>
            </a:r>
            <a:r>
              <a:rPr b="1" i="1" lang="pt-BR" sz="3200" spc="-1" strike="noStrike">
                <a:solidFill>
                  <a:srgbClr val="77933c"/>
                </a:solidFill>
                <a:latin typeface="Calibri"/>
              </a:rPr>
              <a:t>Time kill </a:t>
            </a:r>
            <a:r>
              <a:rPr b="1" i="1" lang="pt-BR" sz="1600" spc="-1" strike="noStrike">
                <a:solidFill>
                  <a:srgbClr val="77933c"/>
                </a:solidFill>
                <a:latin typeface="Calibri"/>
              </a:rPr>
              <a:t>(Sheng et al, Diag Microbiol Infect Dis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PFGE – enzima de restrição X B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Dendrograma: BioNumerics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Pesquisa KPC: </a:t>
            </a:r>
            <a:r>
              <a:rPr b="1" i="1" lang="pt-BR" sz="3200" spc="-1" strike="noStrike">
                <a:solidFill>
                  <a:srgbClr val="77933c"/>
                </a:solidFill>
                <a:latin typeface="Calibri"/>
              </a:rPr>
              <a:t>PCR</a:t>
            </a: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Média, DP, RR, p&lt;0.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Epi-Info 7 e SPSS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e46c0a"/>
                </a:solidFill>
                <a:latin typeface="Calibri"/>
              </a:rPr>
              <a:t>Resultad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127 pacientes com infecção por E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7933c"/>
                </a:solidFill>
                <a:latin typeface="Calibri"/>
              </a:rPr>
              <a:t>27 resistentes polimixina (PR)- 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21,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14 (52%) ≤ 60 a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20 (74%) sexo mascul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Sítios de infec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933c"/>
                </a:solidFill>
                <a:latin typeface="Calibri"/>
              </a:rPr>
              <a:t>12 (44,4%)- P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933c"/>
                </a:solidFill>
                <a:latin typeface="Calibri"/>
              </a:rPr>
              <a:t>12 (44,4%)- 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933c"/>
                </a:solidFill>
                <a:latin typeface="Calibri"/>
              </a:rPr>
              <a:t>2 (7,4%) – B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933c"/>
                </a:solidFill>
                <a:latin typeface="Calibri"/>
              </a:rPr>
              <a:t>1 (3,7%)- pele/partes m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0000"/>
                </a:solidFill>
                <a:latin typeface="Calibri"/>
              </a:rPr>
              <a:t>Terap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85840" y="1785960"/>
          <a:ext cx="8643960" cy="3571920"/>
        </p:xfrm>
        <a:graphic>
          <a:graphicData uri="http://schemas.openxmlformats.org/drawingml/2006/table">
            <a:tbl>
              <a:tblPr/>
              <a:tblGrid>
                <a:gridCol w="2295360"/>
                <a:gridCol w="2027160"/>
                <a:gridCol w="2160720"/>
                <a:gridCol w="2160720"/>
              </a:tblGrid>
              <a:tr h="754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tio infec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Óbito relacionad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n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 (29,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(12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4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mix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C 4-16ug/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(11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33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C 16ug/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ca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(11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gecic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C 2ug/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3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fomi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(3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3:29:14Z</dcterms:created>
  <dc:creator>HP</dc:creator>
  <dc:description/>
  <dc:language>en-US</dc:language>
  <cp:lastModifiedBy>COREI5</cp:lastModifiedBy>
  <dcterms:modified xsi:type="dcterms:W3CDTF">2014-11-20T14:17:25Z</dcterms:modified>
  <cp:revision>47</cp:revision>
  <dc:subject/>
  <dc:title>Estratégias para racionalização de antimicrobianos na prática hospitalar  PARCERIAS COM O CONVÊNIO</dc:title>
</cp:coreProperties>
</file>